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248-4D78-4461-B6F1-FF83A2B7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F17-734A-4309-BB0B-4997DBD0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A60-3FE7-403E-B867-9D43806E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04A-731E-4830-97ED-DC95BE7F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7D7-BE15-4FF7-8268-3A59F536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1A8-FF81-4261-A6DC-51694A4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8B7-5B57-4EAC-969D-46B7D8BE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091-F0D3-42E7-BA7E-FEE6628F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EC2-D333-4406-885A-9405472E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263-1886-4B20-B7B9-4BC1F2E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01D-C9B3-44BB-A3AB-8CA4E7E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2BC-4C15-476A-9368-41C411F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C0C0-E4FD-4517-A873-98CDE1901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4480" y="120600"/>
            <a:ext cx="517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رهبـة ورع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 خشـوع وامتنان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جـرأت وقـرر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 أخاطب الإ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إذ ذاك تقـدم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ي خـزيٌ وأمــان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نـوره تجلّى 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ل ما لي من آثـ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ألته ترى هل م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وفي عني القصاص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صليبي ذ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هو السبيل للخلا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53880" y="120600"/>
            <a:ext cx="505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ـألته وما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إنـه رمـز الآلام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كيف أيها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يف منح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على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مت من أجل خَطاك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دمي قد سال من جن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ه أتممت فد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عنـد ذاك تحيـر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كيـف مات عني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حيرتي سأل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ارب إيضاحا زد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2374517gTWaHW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ي رهبةٍ ورعبةٍ في خشوعٍ وامت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جرأت وقرّرتُ أن أخاطب الإ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إذ ذاكَ تقدمتُ كلي خِزيٌ وأم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نورِه تجلّى لي كلُّ ما لي من آث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سألتُهُ تُرى هل مَن يوفي عني القص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قال لي: صليبي ذا هو السبيل للخل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0"/>
            <a:ext cx="2133360" cy="9201960"/>
          </a:xfrm>
          <a:prstGeom prst="rect">
            <a:avLst/>
          </a:prstGeom>
          <a:solidFill>
            <a:srgbClr val="00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ته يقول لي إني قد أحببت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حملت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قاسيتُ كل ذا من أجل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إني الآن أدعوك كيما نحوي تُ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كي ترتاح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إذ تأتي لما حبي ت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ند ذاك بكى قلبي وناد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ذا الإل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ك عمري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كل كلي لك ما دمت في الحياة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3-02-07T13:17:50Z</dcterms:modified>
  <cp:revision>8</cp:revision>
  <dc:subject/>
  <dc:title>PowerPoint Presentation</dc:title>
</cp:coreProperties>
</file>